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91D-CB37-4936-8C91-5AE68B26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2160-1825-4830-890A-6EFA0492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4BA-CE59-49B4-AED1-64D7F9B1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1A0-D45B-4781-8F8F-738A6442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1809-BF3C-4BD2-BFEF-D1546776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7AAE-770F-4680-B403-DAF07F95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3B56-D077-490E-8549-0AEC5A8B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4C19-77EE-4F1D-B343-E569B519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0783-49F6-42B5-A17C-C471A7FF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A81A-35B4-42B0-AEEF-E3AB4F19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BCFD-F911-496F-BA32-B9925F9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FAE-EFC5-40DD-857A-7CD30490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8183-FC52-4AD0-952A-6DDCDDD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398D-429F-4F43-99DC-5FA5DEFA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52D5-9696-4925-A92C-CC567A23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E8F2-E697-49C0-BBB0-53373C40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3BE5-D822-419D-8943-7F7F3E57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8D6-51E3-4F8E-994F-D1A6C290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542-D6A6-499E-8286-4E0245BA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1999-5169-44D1-B364-D56402E4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A1A-F60B-4690-B112-425B3FBB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44B-1B9F-40AF-A1EA-833092A4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AA0-5DF6-43D4-A233-F9A49381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F26-4D59-4BE8-BAAE-1267DDE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1E3B-7D9F-461C-99DD-5F8C85C4C51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E8C2-3E32-4912-9733-38197E81A00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1916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aber vs. Conoc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09680" y="1143000"/>
            <a:ext cx="6934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aber is “head knowledge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cts &amp; informa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know how to verb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Conocer is “heart knowledge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lac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xperienti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be familiar with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meet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conjug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aber &amp; Conocer are both irregular ONLY in the yo form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 sé   and Yo conozc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l other forms are regula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abes, sabe, sabemos, sabéis, sab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noces, conoce, conocemos, conocéis, conoce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hile y Casi se muer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a no __ mucho de Chi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a __ a Pepe el primer dí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epe no __ a muchas personas en Temuco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s estudiantes __ la música de los Estados Unido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a no __ por qué dicen chau en Chi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a América del Su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600" y="121932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 __ que Buenos Aires es la capital de la Argentin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l Sr. Hernandez__ muy bien a Chil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 quiero__ la cueca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lson__ bailar el tango muy bie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sotros __ los nombres de las capitales sudamericana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llos no__ quién es Eva Peró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5:41:41Z</dcterms:created>
  <dc:creator>WCSD</dc:creator>
  <dc:description/>
  <dc:language>en-US</dc:language>
  <cp:lastModifiedBy>localadmin</cp:lastModifiedBy>
  <dcterms:modified xsi:type="dcterms:W3CDTF">2011-01-20T21:23:56Z</dcterms:modified>
  <cp:revision>11</cp:revision>
  <dc:subject/>
  <dc:title>Saber vs. Conocer</dc:title>
</cp:coreProperties>
</file>